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632-6FFC-43AA-A740-DACD03A7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451-A5F9-417C-B822-994E702C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287-BDDE-4ABA-A652-20B4E4A4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DB3-6C73-49CE-9B60-5E6164D1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75B2-EDD8-4A72-9471-2C5B2366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E7E7-13D8-4D3C-977B-E78841E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847-71C6-4E36-A12E-57D886F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3552-D532-41F3-A83F-2A321A74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EEFA-2DD6-4E92-92ED-898E1419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7B98-6AE6-472E-BC6F-BFFECB2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FB9-8B26-4C84-881A-6930C6C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2AE-EF7B-4847-AC13-F7BCBB3A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4B9F-73C3-4C36-AF2B-C6EBA0A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20F7-4948-4DBF-B04B-9DFAA72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694-846C-4EE6-BB94-3A4CCA5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8D3D-0BC2-4FDA-9DD4-77DE3E3C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F08B-E465-4E0C-8523-ED93C358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F0A-FB6C-406A-A717-FB74BED0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4E8-6D28-4D52-90FE-8D26D026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090-98C6-42F5-9053-B3A60EB1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122-FAA1-4C45-80CD-A2867964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89B-3C0E-4F85-B702-4C73972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4CA-C809-40D8-9880-2E9C2A04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BE3-4DB4-4156-9EB9-A33954B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3BC5-F966-403F-86B6-0A5FEA3C36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E03-6427-4742-BCB6-02406AD24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люлек строительны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люлек строительных (фасадных подъемников) по требуемой грузоподъемности, высоте подъема и типу люльки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консолей по величине требуемого вылет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люлек строительных в разрезе и фасад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11360" y="5432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люлек строительных по грузоподъемности, высоте подъема и типу, подбор консолей по величине выл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92400" y="1039680"/>
            <a:ext cx="525780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541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строительной люль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857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я выбранной люльки и консоли на чертеже в разрезе и фасаде с указанием масштаба постр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801880" y="1289160"/>
            <a:ext cx="406260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строительной люльки на чертеже в разрезе и фасад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355760" y="1341360"/>
            <a:ext cx="68277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9:39Z</dcterms:modified>
  <cp:revision>236</cp:revision>
  <dc:subject/>
  <dc:title>Слайд 1</dc:title>
</cp:coreProperties>
</file>